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6AA-15EC-4FA1-828A-910C00CB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45C-CDAD-431F-92DB-FC85F38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AE2-15A5-42CA-A048-74AC3F3F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C31-5A41-4F99-A654-540CBA58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A9D-A7E5-4F4F-AC37-B4BEBFD7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54C-849E-4BA1-A933-79DB7BE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A96-53D2-412B-9DB3-BA34FAF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3FE-2EB2-42DA-BFF1-9A29E3C6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C6F-4DEF-4495-9344-32E7A24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431-D459-4B8D-8299-C22DA5E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6B4-FC40-4672-ADB5-FD674C2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B5C-CBE7-47FC-B1A6-F70CE48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78A-3B88-4FD0-9777-80ED08C7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3581280" y="1371600"/>
            <a:ext cx="0" cy="6094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4971E-006 L 3.33333E-006 0.27746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48" name="Line 9"/>
          <p:cNvSpPr/>
          <p:nvPr/>
        </p:nvSpPr>
        <p:spPr>
          <a:xfrm>
            <a:off x="3581280" y="3352680"/>
            <a:ext cx="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3657600" y="40384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2666880" y="4800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6171840" y="525780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62520" y="3124080"/>
            <a:ext cx="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657600" y="40384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666880" y="4800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Gleaning Laws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uteronomy, Chap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2860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ִּי תִקְצֹר קְצִירְךָ בְשָׂדֶךָ וְשָׁכַחְתָּ עֹמֶר בַּשָּׂדֶה, לֹא תָשׁוּב לְקַחְתּוֹ--לַגֵּר לַיָּתוֹם וְלָאַלְמָנָה, יִהְיֶה:  לְמַעַן יְבָרֶכְךָ יְהוָה אֱלֹהֶיךָ, בְּכֹל מַעֲשֵׂה יָדֶיךָ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When you reap your harvest in your field, and forget a sheaf in the field, don’t go back to take it – it’s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tranger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rph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ido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that Adonai your God may bless you in all the work of your hand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18"/>
          <p:cNvSpPr/>
          <p:nvPr/>
        </p:nvSpPr>
        <p:spPr>
          <a:xfrm>
            <a:off x="1676520" y="457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lea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grain or other produce left by reap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365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803120" y="837000"/>
            <a:ext cx="34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treat anyone poorly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don’t reject anythi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28960" y="571500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KEI AVOT: Ethics of the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4, Mishna/ver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28600" y="284796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here’s no person who doesn’t have his/her hou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here’s nothing that doesn’t have it’s pl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677560" y="167544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אל תהי בז לכל אדם</a:t>
            </a: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ואל תהי מפליג לכל דבר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2260440" y="3200400"/>
            <a:ext cx="360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שאין לך אדם שאין לו שעה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627360" y="4114800"/>
            <a:ext cx="30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ואין לך דבר שאין לו מקו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1:12:53Z</dcterms:created>
  <dc:creator>naomi</dc:creator>
  <dc:description/>
  <dc:language>en-US</dc:language>
  <cp:lastModifiedBy>marxa</cp:lastModifiedBy>
  <dcterms:modified xsi:type="dcterms:W3CDTF">2010-05-05T17:04:28Z</dcterms:modified>
  <cp:revision>21</cp:revision>
  <dc:subject/>
  <dc:title>Slide 1</dc:title>
</cp:coreProperties>
</file>